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0E5-3AEC-4267-954B-5CA4CEF8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9CF-CEEA-482C-851F-90E83AEC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584-CC74-45A0-BB8E-E3CA7B47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7DB-B150-4FBB-83FF-2F61E15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1F7B-BEC7-4ADC-B178-3411E3B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88F1-65DA-44D9-858D-AB0AE84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5EA0-3A76-431A-9D87-0CBE9020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A65-A3DA-4D69-9B6F-7B1495DE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E304-E259-4D09-ACD8-6A24814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6EBB-0A40-4168-858D-49A91FA3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017D-B4DD-4307-A7E8-EE7251C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43C-AE53-4A7E-9CD9-D102FBF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281-5894-485F-A690-D2F31D6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6EA-D98B-4F81-8FCE-9F919C8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A66F-2C40-476A-8D24-1B8694F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9E5-4D4C-419B-AF5C-129C8642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BB9-FB66-47F6-A1FA-2041693C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C5C-83E1-4C57-A4D6-FD16B0D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DFC-FEB2-41CA-9F28-D49889F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B1B-F950-491F-B05C-425DF596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D70-F122-4533-8C06-152D23BA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CE9-53E3-4470-93FC-117EC7D7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6CF-C088-4694-96CB-A882E40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ACA-22FB-422A-AC62-30ED463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371-0212-458B-A9E3-02860DF1F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2341-1145-466A-AB53-04AB181D0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w Semester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gs to keep in m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iew of major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n your seat when the bell ring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prepar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time for talking and a time for working. Know the differe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all your daily free writ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notebook. You will turn them in on Friday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hey are worth a test gr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a method many writers use to warm up and get ideas on pap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are the guidelin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ive or ten full minutes, write without stopping about anything that comes into your head. Be sure to be school appropriate and respectfu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’t worry about grammar or about writing complete sentences; just set a timer and g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get stuck, repeat or rhyme the last word you wrot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ut keep writing nonstop until the timer sound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ocused freewriting, you try to focus your thoughts on one subject as you free-writ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bject can be one assigned by your teacher, one you choose, or one you discover in unfocused free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 each of thes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ewrite for 5 minutes- any top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stop writing until the buzzer goes off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ed Freewrite for 5 minutes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ould you rather be stuck in an elevator with 3 wet dogs, or with 3 fat men with bad breath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Bang, Bang, You’re De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the following ques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natural for kids to get picked on in school, and they need to just deal with it. Some kids are just too sensi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better to have ANYONE  to hang out with, rather than being al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okay to take revenge on some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Journal-things for to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 character-name, characteristics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as he suspended befo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is he treated at school n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teacher try to help hi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own opin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on minor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7:13:50Z</dcterms:created>
  <dc:creator>Angie</dc:creator>
  <dc:description/>
  <dc:language>en-US</dc:language>
  <cp:lastModifiedBy>Angie McCall</cp:lastModifiedBy>
  <dcterms:modified xsi:type="dcterms:W3CDTF">2013-01-07T16:07:43Z</dcterms:modified>
  <cp:revision>13</cp:revision>
  <dc:subject/>
  <dc:title>New Semester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